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8F23-892F-4B95-8186-10F0C9169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9AFF-8F47-4AEA-B91B-0325A3C3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A77E-D9E8-469A-9A5A-D48B00C40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B684-EFF7-439E-AF3C-80630B410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CED3-F398-478E-9E1F-BB3FA9C5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A478-E717-428F-93DD-F078AADA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4820-924E-4FA4-84C8-AF94807B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3AA8-4F8A-40C8-A73D-3AEE05B0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FEC0-27E5-4985-B934-C8E2BF9A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8E97-B4E8-407A-B026-281CF925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6902-9D63-408A-B8A9-E28A06D2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4143-6511-475F-9128-18C9DE5F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D972-12CF-4F4D-A3F3-866B45632D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6178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ELLCROFT  MILLENNIUM                  GLASGOW  MASONIC                            RUTHERGLEN  &amp;  DISTRICT           CLYDE  CART  TOURI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430524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29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Clyde Cart Tourists"/>
          <p:cNvPicPr/>
          <p:nvPr/>
        </p:nvPicPr>
        <p:blipFill>
          <a:blip r:embed="rId1"/>
          <a:stretch/>
        </p:blipFill>
        <p:spPr>
          <a:xfrm>
            <a:off x="5600880" y="47628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Rutherglen Assoc 50th.JPG"/>
          <p:cNvPicPr/>
          <p:nvPr/>
        </p:nvPicPr>
        <p:blipFill>
          <a:blip r:embed="rId2"/>
          <a:stretch/>
        </p:blipFill>
        <p:spPr>
          <a:xfrm>
            <a:off x="3944880" y="260280"/>
            <a:ext cx="1243080" cy="1390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Glasgow Masonic.JPG"/>
          <p:cNvPicPr/>
          <p:nvPr/>
        </p:nvPicPr>
        <p:blipFill>
          <a:blip r:embed="rId3"/>
          <a:stretch/>
        </p:blipFill>
        <p:spPr>
          <a:xfrm>
            <a:off x="2000160" y="404640"/>
            <a:ext cx="1243080" cy="1283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Wellcroft Millennium1.JPG"/>
          <p:cNvPicPr/>
          <p:nvPr/>
        </p:nvPicPr>
        <p:blipFill>
          <a:blip r:embed="rId4"/>
          <a:stretch/>
        </p:blipFill>
        <p:spPr>
          <a:xfrm>
            <a:off x="344520" y="333360"/>
            <a:ext cx="106056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19:57:43Z</dcterms:created>
  <dc:creator>HP authorized customer</dc:creator>
  <dc:description/>
  <dc:language>en-US</dc:language>
  <cp:lastModifiedBy>John</cp:lastModifiedBy>
  <dcterms:modified xsi:type="dcterms:W3CDTF">2011-11-16T21:38:18Z</dcterms:modified>
  <cp:revision>7</cp:revision>
  <dc:subject/>
  <dc:title>Slide 1</dc:title>
</cp:coreProperties>
</file>